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0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E89B-1DD3-43FF-B462-FF27EE463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2A34-5610-4100-A3BD-9D7364EF5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7FFC-DC9F-4366-8608-B6B3A1AB8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4912-8F31-4F86-8E44-F6F74258B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7546-FFE8-4E75-AF3F-1642BA6AC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B142-1BD1-4780-9B84-E5B035D48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B1C0-EF3D-4A0C-9A9D-3C8528415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DD7D-A59D-410B-BA5A-262C331DE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768E-29AD-4AF3-BAF2-B4A8CCB09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F01C-A81D-4A93-8801-BD92AF8A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E695-5574-4922-9B3F-049E7529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D5A4-94E5-417C-9CE8-6EE7F2D5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DA05E-2B78-4369-A1D8-97E1BC71F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eties to Social Net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ociology  Mr. Plouffe   Korea International Schoo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rticultural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833480" y="2063880"/>
            <a:ext cx="5477040" cy="3598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ociology  Mr. Plouffe   Korea International Schoo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95280" y="919080"/>
            <a:ext cx="8497800" cy="4641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ociology  Mr. Plouffe   Korea International Schoo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ricultural R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ociology  Mr. Plouffe   Korea International Schoo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ltural hear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26920" y="1060560"/>
            <a:ext cx="7561440" cy="565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ociology  Mr. Plouffe   Korea International Schoo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ustri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050920" y="1395360"/>
            <a:ext cx="4897440" cy="479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ociology  Mr. Plouffe   Korea International Schoo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-industrial (information) 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556000" y="1557360"/>
            <a:ext cx="3730680" cy="432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ociology  Mr. Plouffe   Korea International Schoo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tech 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6048360" cy="457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ociology  Mr. Plouffe   Korea International Schoo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 Trans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ociology  Mr. Plouffe   Korea International Schoo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piece of technology mentioned below decide how it has impact, may impact on society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am en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rth control b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c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ping of the human gen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ociology  Mr. Plouffe   Korea International Schoo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ition in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ociology  Mr. Plouffe   Korea International Schoo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nter gather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14680" y="2152800"/>
            <a:ext cx="5715000" cy="341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ociology  Mr. Plouffe   Korea International Schoo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ham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33440" y="1671480"/>
            <a:ext cx="4677120" cy="438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ociology  Mr. Plouffe   Korea International Schoo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059280" y="620640"/>
            <a:ext cx="3119400" cy="468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ociology  Mr. Plouffe   Korea International Schoo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toral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349360" y="2382840"/>
            <a:ext cx="4445280" cy="295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ociology  Mr. Plouffe   Korea International Schoo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8893080" cy="4857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ociology  Mr. Plouffe   Korea International Schoo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8T11:46:33Z</dcterms:created>
  <dc:creator>Lessard</dc:creator>
  <dc:description/>
  <dc:language>en-US</dc:language>
  <cp:lastModifiedBy>Lessard</cp:lastModifiedBy>
  <dcterms:modified xsi:type="dcterms:W3CDTF">2009-03-08T11:53:46Z</dcterms:modified>
  <cp:revision>2</cp:revision>
  <dc:subject/>
  <dc:title>Societies to Social Networks</dc:title>
</cp:coreProperties>
</file>